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1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28.jpeg" ContentType="image/jpeg"/>
  <Override PartName="/ppt/media/image34.jpeg" ContentType="image/jpeg"/>
  <Override PartName="/ppt/media/image30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37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1.gif" ContentType="image/gif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0E32F-DAEA-4C2F-BA8C-94D0D8A63E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11642-08A2-4810-9BBC-B9090A2F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CFCE0-6155-4972-8AFE-BB4E24EB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2D18E-2CDA-415D-B7F2-E5EA76A40B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0A066-DE0B-4999-AD75-42854141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3E339-23D7-4681-B944-EC8E9AB3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1CA7E-1094-4C52-811D-0BC6DE60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59399-8624-4A4A-8C1B-85141F94F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6A62B-6CAA-4F05-8122-98DB2D004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542B9-DB7D-4835-A3A2-19C1330A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30630-BFBA-46CC-B66E-C2A0AC63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E605A-F3A0-425D-9560-92ED6A60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75E1-25C8-4A43-AA52-400E3F75E78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04640"/>
            <a:ext cx="561636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四章 住院患儿的护理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湖北医院学院护理学院  胡艳萍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1434600"/>
            <a:ext cx="8497800" cy="40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儿科门诊的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护就诊秩序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切观察病情变化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预防院内感染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杜绝医疗差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6" name="Picture 4" descr="u=3913563284,955757697&amp;fm=21&amp;gp=0[1]"/>
          <p:cNvPicPr/>
          <p:nvPr/>
        </p:nvPicPr>
        <p:blipFill>
          <a:blip r:embed="rId1"/>
          <a:stretch/>
        </p:blipFill>
        <p:spPr>
          <a:xfrm>
            <a:off x="5508720" y="2708280"/>
            <a:ext cx="322416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急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5080" y="1341000"/>
            <a:ext cx="4319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儿科急诊范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新生儿、高热、抽搐、呼吸困难、青紫、循环衰竭、急性中毒、急性腹痛及吐泻伴有脱水的患儿均属于儿科急诊救治范围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9" name="Picture 4" descr="u=4151494430,3435205423&amp;fm=23&amp;gp=0[1]"/>
          <p:cNvPicPr/>
          <p:nvPr/>
        </p:nvPicPr>
        <p:blipFill>
          <a:blip r:embed="rId1"/>
          <a:stretch/>
        </p:blipFill>
        <p:spPr>
          <a:xfrm>
            <a:off x="4861080" y="2781360"/>
            <a:ext cx="352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急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儿科急诊设置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室、观察室、简易手术室、治疗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儿科急诊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急诊抢救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人员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医疗技术、药品、急救配合和时间是提高抢救成活率主要因素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建立并执行儿童急诊护理常规及抢救流程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执行急诊岗位责任制度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加强文件管理，完善护理记录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4" descr="t013f12c766d00fde81[1].jpg"/>
          <p:cNvPicPr/>
          <p:nvPr/>
        </p:nvPicPr>
        <p:blipFill>
          <a:blip r:embed="rId1"/>
          <a:stretch/>
        </p:blipFill>
        <p:spPr>
          <a:xfrm>
            <a:off x="6327720" y="1125360"/>
            <a:ext cx="2805120" cy="30956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8317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一）设置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室：普通病室、危重病室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理站、医生办公室：病区中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室：静脉液体配置及各种穿刺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污物间：垃圾分类，污染物品存放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配膳（奶）室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游戏室：儿童娱乐、健康教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库房、仪器存放间、医护值班室、主任办公室、 护士长办公室也是儿科病房必备设施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7" name="图片 5" descr="t019edbabceaee46ebc[1].jpg"/>
          <p:cNvPicPr/>
          <p:nvPr/>
        </p:nvPicPr>
        <p:blipFill>
          <a:blip r:embed="rId1"/>
          <a:stretch/>
        </p:blipFill>
        <p:spPr>
          <a:xfrm>
            <a:off x="4718160" y="1054080"/>
            <a:ext cx="3095640" cy="282276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6" descr="t019402c9a494c5c283[1].jpg"/>
          <p:cNvPicPr/>
          <p:nvPr/>
        </p:nvPicPr>
        <p:blipFill>
          <a:blip r:embed="rId2"/>
          <a:stretch/>
        </p:blipFill>
        <p:spPr>
          <a:xfrm rot="21540000">
            <a:off x="363240" y="3417480"/>
            <a:ext cx="3112920" cy="332748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8" descr="t017bb6ff4318ab3a95[1].jpg"/>
          <p:cNvPicPr/>
          <p:nvPr/>
        </p:nvPicPr>
        <p:blipFill>
          <a:blip r:embed="rId3"/>
          <a:stretch/>
        </p:blipFill>
        <p:spPr>
          <a:xfrm>
            <a:off x="352440" y="907920"/>
            <a:ext cx="3097080" cy="2592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86fca30345768a4c-df5a6b164e9a5632-59d322386090383d48ae48ac7f2e9039[1]"/>
          <p:cNvPicPr/>
          <p:nvPr/>
        </p:nvPicPr>
        <p:blipFill>
          <a:blip r:embed="rId4"/>
          <a:stretch/>
        </p:blipFill>
        <p:spPr>
          <a:xfrm>
            <a:off x="4695840" y="3876840"/>
            <a:ext cx="3168720" cy="27651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8"/>
          <p:cNvSpPr/>
          <p:nvPr/>
        </p:nvSpPr>
        <p:spPr>
          <a:xfrm>
            <a:off x="3925800" y="1413000"/>
            <a:ext cx="3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护理站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3916440" y="4273560"/>
            <a:ext cx="36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儿童病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8267760" y="1428840"/>
            <a:ext cx="48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病区走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8345520" y="4351320"/>
            <a:ext cx="30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游戏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610480" cy="51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7" name="左箭头 4"/>
          <p:cNvSpPr/>
          <p:nvPr/>
        </p:nvSpPr>
        <p:spPr>
          <a:xfrm rot="11742000">
            <a:off x="2555640" y="1844280"/>
            <a:ext cx="936360" cy="287280"/>
          </a:xfrm>
          <a:prstGeom prst="leftArrow">
            <a:avLst>
              <a:gd name="adj1" fmla="val 50000"/>
              <a:gd name="adj2" fmla="val 4999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圆角矩形 5"/>
          <p:cNvSpPr/>
          <p:nvPr/>
        </p:nvSpPr>
        <p:spPr>
          <a:xfrm>
            <a:off x="3708360" y="1628640"/>
            <a:ext cx="4535640" cy="24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54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病室环境应适合儿童心理、生理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室内灯光光线明亮，以便观察患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病温湿度应根据患儿年龄大小而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1" name="圆角矩形 4"/>
          <p:cNvSpPr/>
          <p:nvPr/>
        </p:nvSpPr>
        <p:spPr>
          <a:xfrm>
            <a:off x="3276720" y="1628640"/>
            <a:ext cx="5182920" cy="2521080"/>
          </a:xfrm>
          <a:prstGeom prst="roundRect">
            <a:avLst>
              <a:gd name="adj" fmla="val 16667"/>
            </a:avLst>
          </a:prstGeom>
          <a:solidFill>
            <a:srgbClr val="d6c2d7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饮食要兼顾生长发育和疾病治疗的需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衣着应式样简单、柔软，经常换洗，保持清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根据患儿年龄、病情合理安排作息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左箭头 5"/>
          <p:cNvSpPr/>
          <p:nvPr/>
        </p:nvSpPr>
        <p:spPr>
          <a:xfrm rot="10320000">
            <a:off x="2628720" y="2637000"/>
            <a:ext cx="647640" cy="50472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d6c2d7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5" name="圆角矩形 4"/>
          <p:cNvSpPr/>
          <p:nvPr/>
        </p:nvSpPr>
        <p:spPr>
          <a:xfrm>
            <a:off x="3419640" y="2637000"/>
            <a:ext cx="5545080" cy="3024000"/>
          </a:xfrm>
          <a:prstGeom prst="roundRect">
            <a:avLst>
              <a:gd name="adj" fmla="val 16667"/>
            </a:avLst>
          </a:prstGeom>
          <a:solidFill>
            <a:srgbClr val="b7e4f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病房的设施、设备均应有保护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口服药、开水瓶、 电源插座均应在患儿不易接触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急诊通道保持通畅，并有明显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4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严格执行查对制度，防止差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左箭头 5"/>
          <p:cNvSpPr/>
          <p:nvPr/>
        </p:nvSpPr>
        <p:spPr>
          <a:xfrm rot="10860000">
            <a:off x="2627280" y="3715920"/>
            <a:ext cx="720720" cy="504720"/>
          </a:xfrm>
          <a:prstGeom prst="leftArrow">
            <a:avLst>
              <a:gd name="adj1" fmla="val 50000"/>
              <a:gd name="adj2" fmla="val 50012"/>
            </a:avLst>
          </a:prstGeom>
          <a:solidFill>
            <a:srgbClr val="b7e4f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9" name="圆角矩形 4"/>
          <p:cNvSpPr/>
          <p:nvPr/>
        </p:nvSpPr>
        <p:spPr>
          <a:xfrm>
            <a:off x="3780000" y="3429000"/>
            <a:ext cx="5364000" cy="3024360"/>
          </a:xfrm>
          <a:prstGeom prst="roundRect">
            <a:avLst>
              <a:gd name="adj" fmla="val 16667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严格执行清洁、消毒、隔离、探视、陪伴制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强调洗手，防止医源性交叉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通风换气，地面、家具、床每日采用消毒剂擦拭二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左箭头 5"/>
          <p:cNvSpPr/>
          <p:nvPr/>
        </p:nvSpPr>
        <p:spPr>
          <a:xfrm rot="10980000">
            <a:off x="3202920" y="4723560"/>
            <a:ext cx="647640" cy="505080"/>
          </a:xfrm>
          <a:prstGeom prst="leftArrow">
            <a:avLst>
              <a:gd name="adj1" fmla="val 50000"/>
              <a:gd name="adj2" fmla="val 49972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73" name="圆角矩形 4"/>
          <p:cNvSpPr/>
          <p:nvPr/>
        </p:nvSpPr>
        <p:spPr>
          <a:xfrm>
            <a:off x="3852720" y="3789360"/>
            <a:ext cx="5508720" cy="3024360"/>
          </a:xfrm>
          <a:prstGeom prst="roundRect">
            <a:avLst>
              <a:gd name="adj" fmla="val 16667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普通儿科病房发现传染病应立即转至传染病房，同病房患儿采取主动、被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传染病房按病种安排病房，显示隔离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医护人员、陪护人员注意手卫生，防止交叉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左箭头 5"/>
          <p:cNvSpPr/>
          <p:nvPr/>
        </p:nvSpPr>
        <p:spPr>
          <a:xfrm rot="10860000">
            <a:off x="2987280" y="5806800"/>
            <a:ext cx="792360" cy="504720"/>
          </a:xfrm>
          <a:prstGeom prst="leftArrow">
            <a:avLst>
              <a:gd name="adj1" fmla="val 50000"/>
              <a:gd name="adj2" fmla="val 61182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5640" y="1915920"/>
            <a:ext cx="626580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  <a:ea typeface="黑体"/>
              </a:rPr>
              <a:t>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Calibri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1763640" y="2349360"/>
            <a:ext cx="647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1835280" y="4292640"/>
            <a:ext cx="649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835280" y="1413000"/>
            <a:ext cx="5689440" cy="331128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儿科医疗机构的设置和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住院患儿的心理反应及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健康评估的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患儿及家长的沟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用药特点及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836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二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住院患儿的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7" name="Picture 4" descr="2(4393)[1]"/>
          <p:cNvPicPr/>
          <p:nvPr/>
        </p:nvPicPr>
        <p:blipFill>
          <a:blip r:embed="rId1"/>
          <a:stretch/>
        </p:blipFill>
        <p:spPr>
          <a:xfrm>
            <a:off x="4286160" y="2060640"/>
            <a:ext cx="46674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一）婴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分离性焦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六个月以内的婴儿满足其生理需要一般比较安静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六个月后婴儿哭闹不止，寻找父母或亲人，避开和拒绝陌生人，亦可有退缩、抑郁表现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护士对患儿多抚触、怀抱、微笑，维持原有的生活习惯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多陪伴患儿，减少患儿的分离性焦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二）幼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0" y="2060640"/>
          <a:ext cx="9144000" cy="4773600"/>
        </p:xfrm>
        <a:graphic>
          <a:graphicData uri="http://schemas.openxmlformats.org/drawingml/2006/table">
            <a:tbl>
              <a:tblPr/>
              <a:tblGrid>
                <a:gridCol w="2700360"/>
                <a:gridCol w="3075120"/>
                <a:gridCol w="336852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2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分离性焦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表现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阶段 反抗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否认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失望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反抗：哭闹、打人、争吵、说脏话、逃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否认：以不在乎的态度对待父母的探视和离去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失望：表现为退行性行为、抑郁、悲伤情绪，对周围的一切漠不关心，失去兴趣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陪伴和照顾患儿。固定护士对患儿对患儿进行全面、连续的护理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多沟通，达到相互理解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促进行为的发展满足其生活自理的要求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多陪伴患儿，减少患儿的分离性焦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三）学龄前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50920" y="1916280"/>
          <a:ext cx="8664480" cy="4332240"/>
        </p:xfrm>
        <a:graphic>
          <a:graphicData uri="http://schemas.openxmlformats.org/drawingml/2006/table">
            <a:tbl>
              <a:tblPr/>
              <a:tblGrid>
                <a:gridCol w="2736720"/>
                <a:gridCol w="2917800"/>
                <a:gridCol w="3009960"/>
              </a:tblGrid>
              <a:tr h="112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0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离性焦虑，担心治疗破坏了身体的重要性，焦虑和恐惧。智能进一步发育，自己能调节和控制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表现较温和，如难以入睡、悄悄哭泣、把注意力转移到感兴趣的绘画中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尽快熟悉病房环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减轻分离性焦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鼓励自我照顾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消除或减轻恐惧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四）学龄期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担心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孤独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恐惧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自尊心强，独立性强，一般不愿意将心理反应表露出来，为掩盖心中的恐惧感常表现出若无其事的样子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多沟通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护患儿自尊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消除孤独感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减轻担忧情绪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五）青春期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焦虑，自控力下降；依赖性加强，归属感丧失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不合作、气愤、挫折感或退缩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性较强，情绪易波动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建立良好护患关系，增加患儿安全感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健康教育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提高自我管理能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2710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二、临终患儿的心理反应及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1d1496"/>
              </a:solidFill>
              <a:latin typeface="Calibri"/>
              <a:ea typeface="宋体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08000" y="1484280"/>
          <a:ext cx="8807400" cy="4940280"/>
        </p:xfrm>
        <a:graphic>
          <a:graphicData uri="http://schemas.openxmlformats.org/drawingml/2006/table">
            <a:tbl>
              <a:tblPr/>
              <a:tblGrid>
                <a:gridCol w="3160800"/>
                <a:gridCol w="2822400"/>
                <a:gridCol w="2824200"/>
              </a:tblGrid>
              <a:tr h="118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5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无安全感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恐惧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以下的患儿希望与父母亲人在一起获得安全感和减轻疼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以上患儿预感自己濒临死亡，惧怕死亡前的痛苦和死亡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减轻患儿疼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提供心理支持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满足家长要求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做好尸体料理，维护患儿最后的尊严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2720" y="1727280"/>
            <a:ext cx="4680000" cy="46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en-US" sz="36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三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小儿健康评估的特点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98" name="Picture 4" descr="6039aefe04437f9b-ccd0ba6dba545ec9-4da0079547528ddcc38fdccaad89ef08[1]"/>
          <p:cNvPicPr/>
          <p:nvPr/>
        </p:nvPicPr>
        <p:blipFill>
          <a:blip r:embed="rId1"/>
          <a:stretch/>
        </p:blipFill>
        <p:spPr>
          <a:xfrm>
            <a:off x="5651640" y="2997360"/>
            <a:ext cx="302580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一、健康史的采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一般情况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包括姓名（包括乳名）、年龄、性别、出生日期、种族、入院日期、疾病陈述者、通讯地址、联系电话、父母姓名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现病史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原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包括发病时间、主要症状、检查治疗情况等。评估其他系统和全身系统存在的症状，以及同时存在的其他疾病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一、健康史的采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既往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出生史、喂养史、生长发育史、免疫接种史、过敏史、家族史、既往健康史、日常活动与生活习惯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心理社会状况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性格特征、家庭居住环境及经济状况，患儿及家长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本次疾病的认知及心理反应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门诊的设置“预诊处”、“急诊室”的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小儿用药的特点及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常用护理技术操作方法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住院患儿心理反应及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住院患儿及家长沟通方法及技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医疗机构的护理管理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病房小儿意外的预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普通病房遇到传染病患儿如何转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对住院患儿进行正确健康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21F0-49FF-4124-9251-67F0576FDC5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身体评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Calibri"/>
                <a:ea typeface="宋体"/>
              </a:rPr>
              <a:t>（</a:t>
            </a: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一）小儿体格检查的原则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环境舒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安静，光线充足，温度适中，用物齐全，有家人陪同，以增加小儿的安全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态度和蔼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检查前应与小儿交流、逗玩片刻，取得小儿的信任，应用鼓励性、表扬性语言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身体评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7640" y="1125360"/>
            <a:ext cx="8807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（一）小儿体格检查的原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顺序灵活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在小儿安静时进行心肺听诊，呼吸脉搏测量以及腹部触诊，对小儿刺激较大的检查应最后进行。四肢、皮肤、骨骼可随时观察。急诊情况下应首先检查生命体征及与疾病相关部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护和尊重小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动作应轻柔、熟练，注意保暖，学龄儿及青少年应注意隐私的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护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认真执行消毒隔离制度，防止院内交叉感染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12664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格检查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一般检查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包括小儿精神状态、营养、发育、面部表情、体位、行走姿势、活动能力，对周围事物的反应及语言反应等情况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一般测量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温、脉搏、呼吸、血压、体重、身高、头围、胸围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体温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部位：腋下、口腔、肛门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时间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分钟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正 常 值： 腋下正常值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肛温正常值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.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.5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口温正常值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.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.5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腋温测量时先擦干小儿腋窝处的汗液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口温测量适用于能配合的年长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肛温多用于新生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时应有护士在旁边协助、陪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防止体温计折断对患儿造成伤害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脉搏、呼吸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年长儿通过桡动脉检查脉搏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听诊器听诊呼吸音进行呼吸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婴幼儿通过听诊器听诊心脏测量心率。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观察腹部起伏测量呼吸频率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1800" spc="-1" strike="noStrike">
                <a:solidFill>
                  <a:srgbClr val="fe230c"/>
                </a:solidFill>
                <a:latin typeface="Calibri"/>
                <a:ea typeface="宋体"/>
              </a:rPr>
              <a:t>各年龄段小儿呼吸、脉搏正常值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2" name="Line 4"/>
          <p:cNvSpPr/>
          <p:nvPr/>
        </p:nvSpPr>
        <p:spPr>
          <a:xfrm>
            <a:off x="612720" y="6237360"/>
            <a:ext cx="8207280" cy="14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68360" y="3716280"/>
          <a:ext cx="7200720" cy="2989440"/>
        </p:xfrm>
        <a:graphic>
          <a:graphicData uri="http://schemas.openxmlformats.org/drawingml/2006/table">
            <a:tbl>
              <a:tblPr/>
              <a:tblGrid>
                <a:gridCol w="2519280"/>
                <a:gridCol w="2341440"/>
                <a:gridCol w="2340000"/>
              </a:tblGrid>
              <a:tr h="717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脉搏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分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230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呼吸（次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分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45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新生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2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40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5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452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≤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1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3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</a:tr>
              <a:tr h="453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4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7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血压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正 常 值：收缩压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mmH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年龄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2+80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舒张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收缩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2/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袖带一般为上臂长度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保持安静状态，运动后休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再测量血压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及小婴儿多用可视多普勒超声仪或心电监护仪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体重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工具选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称重前先校正工具，餐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进行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测量前先脱去衣裤、尿布，不能脱去者要除去衣服、尿布的重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18" name="图片 5" descr="t014457edee1d3a09e4[1].jpg"/>
          <p:cNvPicPr/>
          <p:nvPr/>
        </p:nvPicPr>
        <p:blipFill>
          <a:blip r:embed="rId1"/>
          <a:stretch/>
        </p:blipFill>
        <p:spPr>
          <a:xfrm>
            <a:off x="3276720" y="1700280"/>
            <a:ext cx="2808000" cy="268740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7" descr="t01860b991e1db812c6[1].jpg"/>
          <p:cNvPicPr/>
          <p:nvPr/>
        </p:nvPicPr>
        <p:blipFill>
          <a:blip r:embed="rId2"/>
          <a:stretch/>
        </p:blipFill>
        <p:spPr>
          <a:xfrm>
            <a:off x="6089760" y="1844640"/>
            <a:ext cx="3054240" cy="268776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10" descr="t011023f9e9ede9b0ec[1].jpg"/>
          <p:cNvPicPr/>
          <p:nvPr/>
        </p:nvPicPr>
        <p:blipFill>
          <a:blip r:embed="rId3"/>
          <a:stretch/>
        </p:blipFill>
        <p:spPr>
          <a:xfrm>
            <a:off x="468360" y="2205000"/>
            <a:ext cx="2816280" cy="2193840"/>
          </a:xfrm>
          <a:prstGeom prst="rect">
            <a:avLst/>
          </a:prstGeom>
          <a:ln w="0">
            <a:noFill/>
          </a:ln>
        </p:spPr>
      </p:pic>
      <p:sp>
        <p:nvSpPr>
          <p:cNvPr id="221" name="矩形 11"/>
          <p:cNvSpPr/>
          <p:nvPr/>
        </p:nvSpPr>
        <p:spPr>
          <a:xfrm>
            <a:off x="684360" y="4581360"/>
            <a:ext cx="1871640" cy="360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0~1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月婴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矩形 12"/>
          <p:cNvSpPr/>
          <p:nvPr/>
        </p:nvSpPr>
        <p:spPr>
          <a:xfrm>
            <a:off x="3780000" y="4437000"/>
            <a:ext cx="1728720" cy="43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1~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岁幼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矩形 13"/>
          <p:cNvSpPr/>
          <p:nvPr/>
        </p:nvSpPr>
        <p:spPr>
          <a:xfrm>
            <a:off x="6732720" y="4581360"/>
            <a:ext cx="1511280" cy="43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岁以上儿童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身高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工具选择 ：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读数记录到小数点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26" name="图片 4" descr="t0194ef115017495ed2[1].jpg"/>
          <p:cNvPicPr/>
          <p:nvPr/>
        </p:nvPicPr>
        <p:blipFill>
          <a:blip r:embed="rId1"/>
          <a:stretch/>
        </p:blipFill>
        <p:spPr>
          <a:xfrm>
            <a:off x="826920" y="2421000"/>
            <a:ext cx="3733920" cy="199872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6" descr="BD47D282E7DC091E98917CB77A68751D[1].jpg"/>
          <p:cNvPicPr/>
          <p:nvPr/>
        </p:nvPicPr>
        <p:blipFill>
          <a:blip r:embed="rId2"/>
          <a:stretch/>
        </p:blipFill>
        <p:spPr>
          <a:xfrm>
            <a:off x="5508720" y="2205000"/>
            <a:ext cx="2879640" cy="2077920"/>
          </a:xfrm>
          <a:prstGeom prst="rect">
            <a:avLst/>
          </a:prstGeom>
          <a:ln w="0">
            <a:noFill/>
          </a:ln>
        </p:spPr>
      </p:pic>
      <p:sp>
        <p:nvSpPr>
          <p:cNvPr id="228" name="矩形 7"/>
          <p:cNvSpPr/>
          <p:nvPr/>
        </p:nvSpPr>
        <p:spPr>
          <a:xfrm>
            <a:off x="1042920" y="4653000"/>
            <a:ext cx="266544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岁以下婴幼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矩形 8"/>
          <p:cNvSpPr/>
          <p:nvPr/>
        </p:nvSpPr>
        <p:spPr>
          <a:xfrm>
            <a:off x="5580000" y="4581360"/>
            <a:ext cx="244800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岁以上儿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527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头围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前通过左右眉弓上缘，后通过枕后结节绕头一 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软尺贴近头皮，读数记录到小数点后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观察毛发情况、头颅有无畸形、囟门大小及紧张度，有无颅骨软化现象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1" name="图片 3" descr="t015e686f368bd3aa9e[1].png"/>
          <p:cNvPicPr/>
          <p:nvPr/>
        </p:nvPicPr>
        <p:blipFill>
          <a:blip r:embed="rId1"/>
          <a:stretch/>
        </p:blipFill>
        <p:spPr>
          <a:xfrm>
            <a:off x="5580000" y="1557360"/>
            <a:ext cx="3240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541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胸围、腹围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胸围：沿乳头下缘水平绕胸一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腹围：平脐绕腹一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取呼气、吸气时测量的平均值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观察胸廓的大小，有无畸形，肋骨串珠，三凹征及心前区膨隆情况。腹部有无肠型、腹胀；脐部有无分泌物、脐疝；听诊肠鸣音情况；触诊肝大小，腹部有无包块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3" name="图片 4" descr="t01d9d51a1377b01c2d[1].gif"/>
          <p:cNvPicPr/>
          <p:nvPr/>
        </p:nvPicPr>
        <p:blipFill>
          <a:blip r:embed="rId1"/>
          <a:stretch/>
        </p:blipFill>
        <p:spPr>
          <a:xfrm>
            <a:off x="5867280" y="4221000"/>
            <a:ext cx="3025800" cy="223236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5" descr="t010e3b6795802909a5[1].jpg"/>
          <p:cNvPicPr/>
          <p:nvPr/>
        </p:nvPicPr>
        <p:blipFill>
          <a:blip r:embed="rId2"/>
          <a:stretch/>
        </p:blipFill>
        <p:spPr>
          <a:xfrm>
            <a:off x="5867280" y="1197000"/>
            <a:ext cx="3276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 一 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儿科医疗机构的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设置及护理管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17" name="图片 3" descr="4_3[1].jpg"/>
          <p:cNvPicPr/>
          <p:nvPr/>
        </p:nvPicPr>
        <p:blipFill>
          <a:blip r:embed="rId1"/>
          <a:stretch/>
        </p:blipFill>
        <p:spPr>
          <a:xfrm>
            <a:off x="5003640" y="2133720"/>
            <a:ext cx="38894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412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Calibri"/>
                <a:ea typeface="宋体"/>
              </a:rPr>
              <a:t>第四节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Calibri"/>
                <a:ea typeface="宋体"/>
              </a:rPr>
              <a:t>与患儿及家长的沟通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6" name="图片 3" descr="t01c2a64b43db988035[1].jpg"/>
          <p:cNvPicPr/>
          <p:nvPr/>
        </p:nvPicPr>
        <p:blipFill>
          <a:blip r:embed="rId1"/>
          <a:stretch/>
        </p:blipFill>
        <p:spPr>
          <a:xfrm>
            <a:off x="5076720" y="1628640"/>
            <a:ext cx="40672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56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ac8de"/>
                </a:solidFill>
                <a:uFillTx/>
                <a:latin typeface="Calibri"/>
                <a:ea typeface="宋体"/>
              </a:rPr>
              <a:t>   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沟通（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communication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）是人与人之间信息传递的过程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9" name="图片 3" descr="t0144f4c477e2413435[1].jpg"/>
          <p:cNvPicPr/>
          <p:nvPr/>
        </p:nvPicPr>
        <p:blipFill>
          <a:blip r:embed="rId1"/>
          <a:stretch/>
        </p:blipFill>
        <p:spPr>
          <a:xfrm>
            <a:off x="4923000" y="3933720"/>
            <a:ext cx="3752640" cy="22320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6948360" y="549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8720" y="476280"/>
            <a:ext cx="82692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特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语言表达能力差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缺乏判断能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适应环境能力差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一、与患儿沟通的方法及技巧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途径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语言沟通：口头和书面语言沟通。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非语言沟通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过表情、手势、姿势、动作、目光等进行的沟通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游戏沟通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缩短护患距离，促进相互了解。患儿表达住院感受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绘画沟通：绘画分自发性和目的性绘画通过绘 画帮助患儿发泄感情，表达愿望。护士通过绘画分析患儿心理活动，心理问题，给予矫正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endParaRPr b="1" lang="en-US" sz="9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484000" y="404640"/>
            <a:ext cx="66135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一、与患儿沟通的方法及技巧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语言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主动自我介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尽量使用肯定性语言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耐心倾听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注重沟通效果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7152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非语言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开导尊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面带微笑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适时抚摸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5796000" y="3573360"/>
            <a:ext cx="28796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7152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游戏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了解游戏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合理安排游戏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2" name="图片 3" descr="t014669ecf4069a03c3[1].jpg"/>
          <p:cNvPicPr/>
          <p:nvPr/>
        </p:nvPicPr>
        <p:blipFill>
          <a:blip r:embed="rId1"/>
          <a:stretch/>
        </p:blipFill>
        <p:spPr>
          <a:xfrm>
            <a:off x="5076720" y="2421000"/>
            <a:ext cx="3527640" cy="4032360"/>
          </a:xfrm>
          <a:prstGeom prst="rect">
            <a:avLst/>
          </a:prstGeom>
          <a:ln w="0">
            <a:noFill/>
          </a:ln>
        </p:spPr>
      </p:pic>
      <p:sp>
        <p:nvSpPr>
          <p:cNvPr id="253" name="矩形 4"/>
          <p:cNvSpPr/>
          <p:nvPr/>
        </p:nvSpPr>
        <p:spPr>
          <a:xfrm>
            <a:off x="7524720" y="5589720"/>
            <a:ext cx="1079640" cy="9349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游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7152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途径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绘画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护士通过对画面中形象大小，出现次序、重叠、涂擦等情况，结合患儿的背景资料，综合分析患儿心理状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6" name="图片 3" descr="t017a71a653b6a12c69[1].jpg"/>
          <p:cNvPicPr/>
          <p:nvPr/>
        </p:nvPicPr>
        <p:blipFill>
          <a:blip r:embed="rId1"/>
          <a:stretch/>
        </p:blipFill>
        <p:spPr>
          <a:xfrm>
            <a:off x="4284720" y="4005360"/>
            <a:ext cx="41036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71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二、与患儿家长沟通的方法及技巧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5562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与患儿家长沟通的目的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长内疚、焦虑、紧张不安的情绪，可以引起小儿的不安。与家长沟通可以给家长提供放松心情，减小压力的机会，促进家长与患儿的沟通，使患儿和家长能够以稳定的情绪安心接受治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沟通技巧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沉默、观察和移情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9" name="图片 3" descr="t01c147794be631b5cc[1].jpg"/>
          <p:cNvPicPr/>
          <p:nvPr/>
        </p:nvPicPr>
        <p:blipFill>
          <a:blip r:embed="rId1"/>
          <a:stretch/>
        </p:blipFill>
        <p:spPr>
          <a:xfrm>
            <a:off x="5940360" y="1916280"/>
            <a:ext cx="2808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78508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与患儿家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920" y="1371240"/>
            <a:ext cx="864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与患儿家长沟通方法：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交谈   选择合适地点、时间、多采用开放式问题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恰当的沉默   给家长时间考虑他的想法和回顾所需的信息，使其感觉护士是真正用心倾听，获得非常舒适的感觉，从而建立良好的信任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移情和观察   移情也叫做换位思考，可以表明护理人员对家长真诚的关心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阻碍沟通   沟通中应注意信息适量，随时澄清，关系到隐私问题应注意保护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87361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儿童医疗机构</a:t>
            </a:r>
            <a:br>
              <a:rPr sz="3200"/>
            </a:b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儿童医院：门诊、急诊、病房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妇幼保健院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综合性医院的儿科：门诊、住院病房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五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小儿用药特点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63" name="图片 4" descr="6_1387807119[1].jpg"/>
          <p:cNvPicPr/>
          <p:nvPr/>
        </p:nvPicPr>
        <p:blipFill>
          <a:blip r:embed="rId1"/>
          <a:stretch/>
        </p:blipFill>
        <p:spPr>
          <a:xfrm>
            <a:off x="4859280" y="3573360"/>
            <a:ext cx="3960720" cy="295128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5" descr="t010d8408be259742ac[1].jpg"/>
          <p:cNvPicPr/>
          <p:nvPr/>
        </p:nvPicPr>
        <p:blipFill>
          <a:blip r:embed="rId2"/>
          <a:stretch/>
        </p:blipFill>
        <p:spPr>
          <a:xfrm>
            <a:off x="468360" y="3500280"/>
            <a:ext cx="374328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83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小儿用药特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药物在组织内的分布因年龄而异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小儿血脑屏障功能不完善，药物易透过血脑屏障到达中枢神经系统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年龄不同，对药物反应及毒副作用有所差别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胎儿、乳儿受母亲用药的影响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肾功能不足，肾排泄差，药物分解及其产物在体内滞留时间延长，药物的毒性反应增加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先天性遗传因素，影响小儿用药选择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小儿药物的计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5280" y="137124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体重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每公斤体重所需药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体表面积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kg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035+0.1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【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02+1.05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用药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每平方米体表面积所需药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小儿药物的计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年龄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临床使用营养类药物、中药制剂多按此法计算剂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按成人剂量计算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仅用于没有提供小儿剂量的药物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人剂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体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÷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图片 4" descr="t0135bdf0d32c704f2c[1].jpg"/>
          <p:cNvPicPr/>
          <p:nvPr/>
        </p:nvPicPr>
        <p:blipFill>
          <a:blip r:embed="rId1"/>
          <a:stretch/>
        </p:blipFill>
        <p:spPr>
          <a:xfrm>
            <a:off x="6156360" y="4437000"/>
            <a:ext cx="2881440" cy="20163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550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 小儿药物的选择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88200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抗生素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危害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期广泛滥用及过度使用抗生素，可引起菌群失调，导致体内微生态环境紊乱，从而引起真菌、耐药菌感染。同时引起微生物对药物的耐受性，对人类健康产生极为有害的影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儿科用药要求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严格掌握药物的药理作用及用药指征，重视药物的毒、副作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根据病源种类和药敏正确选择药物、恰当的剂量、足够的疗程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单一药物能控制感染，尽量不要联合用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图片 4" descr="t017e7b0892e3da1d24[1].jpg"/>
          <p:cNvPicPr/>
          <p:nvPr/>
        </p:nvPicPr>
        <p:blipFill>
          <a:blip r:embed="rId1"/>
          <a:stretch/>
        </p:blipFill>
        <p:spPr>
          <a:xfrm>
            <a:off x="7164360" y="3429000"/>
            <a:ext cx="1800360" cy="204624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-360" y="1413000"/>
            <a:ext cx="859140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肾上腺皮质激素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危害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较长时间使用肾上腺皮质激素可抑制骨髓生长，影响蛋白质、脂肪、水、电解质的代谢，也可引起库欣综合征及血压增高；长期使用还可以导致肾上腺皮质萎缩，免疫力降低，病灶扩散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儿科用药选择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短疗程用于重度感染性疾病、过敏性疾病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疗程用于肾病综合征、某些自身免疫性疾病、血液病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皮肤病、哮喘提倡局部用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诊断不明确时避免滥用，以免掩盖病情；水痘患儿禁用激素，以防加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76" name="图片 5" descr="t015600670e6c66c3ab[1].jpg"/>
          <p:cNvPicPr/>
          <p:nvPr/>
        </p:nvPicPr>
        <p:blipFill>
          <a:blip r:embed="rId2"/>
          <a:stretch/>
        </p:blipFill>
        <p:spPr>
          <a:xfrm>
            <a:off x="6948360" y="333360"/>
            <a:ext cx="201636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2240" y="1197000"/>
            <a:ext cx="86108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退热药物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儿科常用退热药物</a:t>
            </a: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布洛芬、对乙酰氨基酚、小儿酚黄那敏、退热栓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儿科退热药物使用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使用退热药应谨慎，不易过早、过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剂量不宜过大，用药时间不可过长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高热不退需反复使用时必须间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小婴儿谨慎使用退热药物，发热多采用物理降温和多饮水措施。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婴儿不宜使用阿司匹林，警惕瑞氏综合症发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78" name="图片 4" descr="t0142be7bdc0e806ed3[1].jpg"/>
          <p:cNvPicPr/>
          <p:nvPr/>
        </p:nvPicPr>
        <p:blipFill>
          <a:blip r:embed="rId1"/>
          <a:stretch/>
        </p:blipFill>
        <p:spPr>
          <a:xfrm>
            <a:off x="7524720" y="1557360"/>
            <a:ext cx="17287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镇静止惊药</a:t>
            </a: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常用药物：</a:t>
            </a: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％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水合氯醛：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5ml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留灌肠，最大剂量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l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苯巴比妥：每次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g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肌内注射，最大量每次≤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2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地西泮：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5mg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，静脉缓慢推注。最大剂量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g,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婴幼儿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mg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临床应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用于热性惊厥的预防及高热惊厥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减轻患儿烦躁，保持患儿安静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神经系统疾病及破伤风，预防抽搐发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密切观察呼吸及循环情况，防止抑制呼吸，影响循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150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宋体"/>
                <a:ea typeface="宋体"/>
              </a:rPr>
              <a:t>5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镇咳止喘药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常用药物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氨溴索糖浆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g/5m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口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6mg/(kg·d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氨茶碱：口服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mg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kg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）静脉滴注：每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mg/k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吸入性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受体激动剂（沙丁胺醇、特布他林）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临床用药注意事项：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小儿多用祛痰药，一般不用镇咳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哮喘患儿提倡吸入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受体激动剂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氨茶碱使用应剂量准确，防止中毒发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同时服用多种药物时，糖浆最后服用且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钟内指导患儿不要饮水及进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新生儿及小婴儿慎用镇咳止喘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58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止泻药与泻药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用止泻药，患儿腹泻时多采用口服、静脉补液的方法防止水、电解质、酸碱平衡紊乱。可适当使用活菌制剂和保护肠黏膜药物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用泻药，小儿多采用调整饮食和松软大便的方法解决便秘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2920" y="1267920"/>
            <a:ext cx="55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预诊处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位置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门诊入口处设两个出口，一个通向普通门诊候诊室，一个通向隔离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功能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初步鉴别传染病，安排传染病患儿至隔离区就诊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区分急诊、平诊、协助患儿家长选择就诊科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安排危重症患儿提前就诊，争取抢救机会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22" name="图片 3" descr="t01d2ccd3c50e7a8085[1].jpg"/>
          <p:cNvPicPr/>
          <p:nvPr/>
        </p:nvPicPr>
        <p:blipFill>
          <a:blip r:embed="rId1"/>
          <a:stretch/>
        </p:blipFill>
        <p:spPr>
          <a:xfrm>
            <a:off x="5724360" y="1773360"/>
            <a:ext cx="3240360" cy="317952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6516720" y="5373720"/>
            <a:ext cx="187164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预诊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95280" y="1371240"/>
            <a:ext cx="835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新生儿、早产儿用药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婴儿肝、肾代谢功能不成熟，药物毒、副作用较年长儿多见，应慎重用药，如氯霉素可引起灰婴综合征；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引起高胆红素血症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乳母用药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些药物如阿托品、苯巴比妥等可经母乳影响婴儿，应慎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8126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临床常用的给药方法婴幼儿通常选用水剂、冲剂、糖浆或将药物捣碎后加糖水吞服。年长儿可服用药丸和片剂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用有肌内注射、静脉注射和静脉滴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为皮肤用药，剂型多为软膏、水剂和混悬液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灌肠、雾化、含片、含漱。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3780000" y="1341360"/>
            <a:ext cx="4752720" cy="1440000"/>
          </a:xfrm>
          <a:prstGeom prst="roundRect">
            <a:avLst>
              <a:gd name="adj" fmla="val 16667"/>
            </a:avLst>
          </a:prstGeom>
          <a:solidFill>
            <a:srgbClr val="28b9d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注意事项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 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防止呛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2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防止呕吐和误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了解药物性质，合理安排服药顺序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5"/>
          <p:cNvSpPr/>
          <p:nvPr/>
        </p:nvSpPr>
        <p:spPr>
          <a:xfrm flipV="1">
            <a:off x="2989440" y="1917720"/>
            <a:ext cx="792000" cy="21888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8b9d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3276720" y="1844640"/>
            <a:ext cx="5182920" cy="1800360"/>
          </a:xfrm>
          <a:prstGeom prst="roundRect">
            <a:avLst>
              <a:gd name="adj" fmla="val 16667"/>
            </a:avLst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注意事项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根据药物性质、用药目的、选择正确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射方法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小儿肌内注射选择臀中肌、臀小肌，掌握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“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三快”注射技术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5"/>
          <p:cNvSpPr/>
          <p:nvPr/>
        </p:nvSpPr>
        <p:spPr>
          <a:xfrm flipV="1">
            <a:off x="2484360" y="2924280"/>
            <a:ext cx="792360" cy="218880"/>
          </a:xfrm>
          <a:custGeom>
            <a:avLst/>
            <a:gdLst>
              <a:gd name="textAreaLeft" fmla="*/ 99000 w 792360"/>
              <a:gd name="textAreaRight" fmla="*/ 693360 w 79236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5" name="AutoShape 4"/>
          <p:cNvSpPr/>
          <p:nvPr/>
        </p:nvSpPr>
        <p:spPr>
          <a:xfrm>
            <a:off x="3349800" y="2927520"/>
            <a:ext cx="4897440" cy="1726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注意事项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药物放置妥当，防止小儿抓摸药物误入口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眼发生意外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混悬液用前应充分摇匀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耳、眼、鼻的滴剂，由护理人员或家长进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正确操作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AutoShape 5"/>
          <p:cNvSpPr/>
          <p:nvPr/>
        </p:nvSpPr>
        <p:spPr>
          <a:xfrm flipV="1">
            <a:off x="2556000" y="3859920"/>
            <a:ext cx="792000" cy="21924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9240"/>
              <a:gd name="textAreaBottom" fmla="*/ 164520 h 219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10480" cy="487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9" name="AutoShape 4"/>
          <p:cNvSpPr/>
          <p:nvPr/>
        </p:nvSpPr>
        <p:spPr>
          <a:xfrm>
            <a:off x="3419640" y="4292640"/>
            <a:ext cx="4897440" cy="2233440"/>
          </a:xfrm>
          <a:prstGeom prst="roundRect">
            <a:avLst>
              <a:gd name="adj" fmla="val 16667"/>
            </a:avLst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注意事项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性质、用药目的选择合理用药途径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灌肠用药应根据患儿年龄、病变部位、用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目的选择肛管粗细、插管深度及患儿体位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鼻饲法一般用于昏迷的患儿，用胃管灌入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只限于口服的药物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雾化吸入临床常用于治疗肺炎咳嗽、哮喘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感冒、咳嗽等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5"/>
          <p:cNvSpPr/>
          <p:nvPr/>
        </p:nvSpPr>
        <p:spPr>
          <a:xfrm flipV="1">
            <a:off x="2700360" y="5229360"/>
            <a:ext cx="792000" cy="21888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1219320" y="2133720"/>
            <a:ext cx="40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Arial"/>
                <a:ea typeface="华文行楷"/>
              </a:rPr>
              <a:t>谢谢</a:t>
            </a:r>
            <a:endParaRPr b="0" lang="en-US" sz="9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2" name="Picture 3" descr="angel"/>
          <p:cNvPicPr/>
          <p:nvPr/>
        </p:nvPicPr>
        <p:blipFill>
          <a:blip r:embed="rId1"/>
          <a:stretch/>
        </p:blipFill>
        <p:spPr>
          <a:xfrm>
            <a:off x="3929040" y="2928960"/>
            <a:ext cx="2571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2010093009394760[1]"/>
          <p:cNvPicPr/>
          <p:nvPr/>
        </p:nvPicPr>
        <p:blipFill>
          <a:blip r:embed="rId1"/>
          <a:stretch/>
        </p:blipFill>
        <p:spPr>
          <a:xfrm>
            <a:off x="1187280" y="1052640"/>
            <a:ext cx="7201080" cy="4744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07681d1cc9982991-6799152324b54299-25d30c40a830ee05a7679d2a16c30efb[1]"/>
          <p:cNvPicPr/>
          <p:nvPr/>
        </p:nvPicPr>
        <p:blipFill>
          <a:blip r:embed="rId2"/>
          <a:stretch/>
        </p:blipFill>
        <p:spPr>
          <a:xfrm>
            <a:off x="1260360" y="981000"/>
            <a:ext cx="36036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4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门诊部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）门诊诊疗区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导医咨询处、候诊大厅、体温测量处、电子叫号显示屏，专家诊室、普通诊室，隔离诊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28" name="Picture 4" descr="07681d1cc9982991-6799152324b54299-25d30c40a830ee05a7679d2a16c30efb[1]"/>
          <p:cNvPicPr/>
          <p:nvPr/>
        </p:nvPicPr>
        <p:blipFill>
          <a:blip r:embed="rId1"/>
          <a:stretch/>
        </p:blipFill>
        <p:spPr>
          <a:xfrm>
            <a:off x="4788000" y="2133720"/>
            <a:ext cx="36766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396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门诊部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）门诊治疗区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药房、收费处、静脉液体配置中心、静脉输液穿刺区和观察室（配备输液观察椅和观察床），电子叫号显示屏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1" name="图片 3" descr="t0190ebb615d7b49e30[1].jpg"/>
          <p:cNvPicPr/>
          <p:nvPr/>
        </p:nvPicPr>
        <p:blipFill>
          <a:blip r:embed="rId1"/>
          <a:stretch/>
        </p:blipFill>
        <p:spPr>
          <a:xfrm>
            <a:off x="4140360" y="4079880"/>
            <a:ext cx="4825800" cy="2664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8deb926f3f27f097-dd64c6fcf55805e9-29a8f5e99b39d8f00262f0cf487798a6[1]"/>
          <p:cNvPicPr/>
          <p:nvPr/>
        </p:nvPicPr>
        <p:blipFill>
          <a:blip r:embed="rId2"/>
          <a:stretch/>
        </p:blipFill>
        <p:spPr>
          <a:xfrm>
            <a:off x="4140360" y="982800"/>
            <a:ext cx="2160360" cy="3022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073dd602d5871102-a27e23a56d270ab0-3b21c98f8918dcab804c34fa4c2b9b0e[1]"/>
          <p:cNvPicPr/>
          <p:nvPr/>
        </p:nvPicPr>
        <p:blipFill>
          <a:blip r:embed="rId3"/>
          <a:stretch/>
        </p:blipFill>
        <p:spPr>
          <a:xfrm>
            <a:off x="6445080" y="1052640"/>
            <a:ext cx="227340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刘云涛</cp:lastModifiedBy>
  <dcterms:modified xsi:type="dcterms:W3CDTF">2015-09-06T08:41:13Z</dcterms:modified>
  <cp:revision>2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